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3BE4-21F7-4257-BAD4-AEDD83F8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7099-1A56-4010-8EAD-4336AA5B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BCCC-3232-456B-98C8-DF1FD267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E8DD-CC8C-4985-82B0-62E49A92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9101-F1CC-4E5B-B5FC-2DA4A8CD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4A75-D064-489C-BE17-67538C9B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A752-25C7-43D8-B960-9EFA0D44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554C-167B-4F94-A8EB-0B122B1B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C124-4ADA-4EAA-8E1E-C7DFAC42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81D1-AA7F-4093-8C4B-A1CC2377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28CC-F72C-45D9-AF15-F3A5B470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F071-1E78-46AA-A0BE-81111547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133E-9938-4817-AE40-970E24231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0" y="139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iry Br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609480"/>
          <a:ext cx="8367480" cy="5730840"/>
        </p:xfrm>
        <a:graphic>
          <a:graphicData uri="http://schemas.openxmlformats.org/drawingml/2006/table">
            <a:tbl>
              <a:tblPr/>
              <a:tblGrid>
                <a:gridCol w="1441440"/>
                <a:gridCol w="1089000"/>
                <a:gridCol w="2263680"/>
                <a:gridCol w="1625760"/>
                <a:gridCol w="1947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ree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en Im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i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table Character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yrsh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own Swi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erns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s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rs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king Shortho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19:50Z</dcterms:created>
  <dc:creator>loweryb</dc:creator>
  <dc:description/>
  <dc:language>en-US</dc:language>
  <cp:lastModifiedBy>LevsenJ</cp:lastModifiedBy>
  <dcterms:modified xsi:type="dcterms:W3CDTF">2007-09-06T14:43:50Z</dcterms:modified>
  <cp:revision>2</cp:revision>
  <dc:subject/>
  <dc:title>Slide 1</dc:title>
</cp:coreProperties>
</file>